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5B98EC4-1E68-456E-931F-561B850A4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lcome and introductions – name, position, board 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important thing that I learned about linear relations today i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3D7B-C8C9-4680-B2E4-D174EA1F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6AD4-2F5A-4A01-A8EA-E71BE827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1AF6-E2B3-4D58-ADEF-D057E1CD2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4152-C5E5-4370-82D6-D0738A23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03D8-35E7-46E7-A08B-C5D72D4C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A08C-1149-457C-BBD2-454FDAF7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239E-F2A3-42FB-A963-DBF9A65A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D6DA-1F28-48F3-B5A1-89E6E196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4D43-A6D7-431D-BEB1-B69D9362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3B5C-AE97-409C-AAAD-C7790C1F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8503-36E6-4BFF-B37C-DC469741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F927-EC39-48DF-9E6B-55B993E8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2852-C401-471D-B444-C14A76F7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A786-A24E-476B-84DB-F2C2BA7D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B216-744B-4463-8AD1-41769EE1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AD8C-1F76-41F0-8D0C-360B9F504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748C-0DCF-43FB-9B9D-6DA40D56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946B-5591-477E-846C-C889D98D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2908-3D22-4F09-82EF-C3AADF38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F604-1644-4F21-A624-418B6CD4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2606-4154-4A34-BEA1-5B828383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3F48-43BC-460D-A25C-A30875ED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1155-6C29-40E2-B9D0-593035B2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71F9-1E77-408B-B343-9B9EB10B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16D6-2309-4E8A-BF52-4132C0514DBC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1C18-F480-4028-B760-0C45CB6E36C2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2632-AA3B-4CCD-A04B-E517D94155E3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159984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d469b"/>
                </a:solidFill>
                <a:latin typeface="Arial"/>
              </a:rPr>
              <a:t>Linear Relations</a:t>
            </a:r>
            <a:br>
              <a:rPr sz="4800"/>
            </a:br>
            <a:r>
              <a:rPr b="1" i="1" lang="en-US" sz="4800" spc="-1" strike="noStrike">
                <a:solidFill>
                  <a:srgbClr val="0d469b"/>
                </a:solidFill>
                <a:latin typeface="Arial"/>
              </a:rPr>
              <a:t>Day 3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42840" y="3733920"/>
            <a:ext cx="5715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 CAMP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19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867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Greg Clar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Trish Ste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415800" y="787320"/>
            <a:ext cx="8331480" cy="5867640"/>
            <a:chOff x="415800" y="787320"/>
            <a:chExt cx="8331480" cy="5867640"/>
          </a:xfrm>
        </p:grpSpPr>
        <p:grpSp>
          <p:nvGrpSpPr>
            <p:cNvPr id="110" name=""/>
            <p:cNvGrpSpPr/>
            <p:nvPr/>
          </p:nvGrpSpPr>
          <p:grpSpPr>
            <a:xfrm>
              <a:off x="415800" y="787320"/>
              <a:ext cx="8331480" cy="5867640"/>
              <a:chOff x="415800" y="787320"/>
              <a:chExt cx="8331480" cy="5867640"/>
            </a:xfrm>
          </p:grpSpPr>
          <p:sp>
            <p:nvSpPr>
              <p:cNvPr id="111" name=""/>
              <p:cNvSpPr/>
              <p:nvPr/>
            </p:nvSpPr>
            <p:spPr>
              <a:xfrm>
                <a:off x="415800" y="805320"/>
                <a:ext cx="8331480" cy="583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594320" y="787320"/>
                <a:ext cx="0" cy="586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15800" y="3675240"/>
                <a:ext cx="8318880" cy="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97160" y="3072240"/>
                <a:ext cx="2781360" cy="1352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504720" y="100656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4720" y="382140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359760" y="389448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n-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46800" y="878400"/>
              <a:ext cx="234936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haracteristics/Fa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50920" y="782640"/>
            <a:ext cx="5459400" cy="5346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57360" y="1263600"/>
            <a:ext cx="6014880" cy="43974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410000" y="1720800"/>
            <a:ext cx="914400" cy="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400" y="56016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Linear Relations</a:t>
            </a:r>
            <a:br>
              <a:rPr sz="4000"/>
            </a:b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Manipulatives &amp; Technology</a:t>
            </a:r>
            <a:br>
              <a:rPr sz="4000"/>
            </a:b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Carousel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924440" y="2470320"/>
            <a:ext cx="3219480" cy="3828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620640" y="2338560"/>
            <a:ext cx="38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b78c"/>
                </a:solidFill>
                <a:latin typeface="Arial"/>
              </a:rPr>
              <a:t>Explore 5 out of 8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0800" y="2944800"/>
            <a:ext cx="3456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 A:  TI-Ns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 B:  C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 C:  Giz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 D:  CL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 E:   G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 F:   Square 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 G:  Linking C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 H:  Real-lif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0280" y="2402280"/>
            <a:ext cx="90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Which Big Ideas were address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through the tasks you di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21200" y="1435320"/>
            <a:ext cx="835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What Mathematical Proces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did you experie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when answering the tas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87280" y="3589200"/>
            <a:ext cx="285912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59880" y="2041560"/>
            <a:ext cx="6020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How can you use an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of these task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for stud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in your classro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67560" y="2495880"/>
            <a:ext cx="838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What would yo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change or alter with the tas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45320" y="2041560"/>
            <a:ext cx="6453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Which task did you f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the hardest to do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15720" y="2376720"/>
            <a:ext cx="6712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Which task di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you find the easiest to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ask: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1200" y="2151000"/>
            <a:ext cx="8245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reate a parallel task that is appropriate for your     learning go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1:11:23Z</dcterms:created>
  <dc:creator>Myrna Ingalls</dc:creator>
  <dc:description/>
  <dc:language>en-US</dc:language>
  <cp:lastModifiedBy>PSteele</cp:lastModifiedBy>
  <dcterms:modified xsi:type="dcterms:W3CDTF">2009-08-05T11:52:12Z</dcterms:modified>
  <cp:revision>130</cp:revision>
  <dc:subject/>
  <dc:title>Math GAINS 2008-09</dc:title>
</cp:coreProperties>
</file>